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2BCD-E4FA-4D74-A20C-28D8B4B6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3A2-69E0-45D1-957A-188507AC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ABD-2922-40B3-84FD-CCA5B1B9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E1C-4696-48B2-9F43-91DED335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87E-989A-4BC2-ADFF-ABE40FE4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CF8-704F-4B5E-84C4-4B0A455F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B5F-DA1B-412F-BCF9-B6FA9DAD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FF87-96A3-4714-89B5-23FE76B3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A63-3A09-46EE-BBD1-51D7C743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C7B-FF43-4D30-AB24-CA424069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FDA-8BAA-4C1C-BCEF-7DAC2F3E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868-F186-434B-A259-98FA8DA5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09E8-EEC7-4341-8C22-E9991F7E5E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495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Hatfields and McCoy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Pointedly Mad"/>
              </a:rPr>
              <a:t>The Original Family F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5" descr="hatfields2"/>
          <p:cNvPicPr/>
          <p:nvPr/>
        </p:nvPicPr>
        <p:blipFill>
          <a:blip r:embed="rId1"/>
          <a:stretch/>
        </p:blipFill>
        <p:spPr>
          <a:xfrm>
            <a:off x="1600200" y="380880"/>
            <a:ext cx="6095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1882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On August 9, Bud, Tolbert, and Pharmer McCoy killed Ellison Hat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three McCoys were tied to bushes and executed by the Hatfiel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Jeff McCoy was later killed on the banks of the Tug Fork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8" descr="htfld053"/>
          <p:cNvPicPr/>
          <p:nvPr/>
        </p:nvPicPr>
        <p:blipFill>
          <a:blip r:embed="rId1"/>
          <a:stretch/>
        </p:blipFill>
        <p:spPr>
          <a:xfrm>
            <a:off x="5105520" y="1295280"/>
            <a:ext cx="309564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1888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Alifair and Calvin McCoy are brutally murdered in a Hatfield raid on the McCoy cab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The McCoy cabin is burned to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Roseanna McCoy died later that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Map of the Feu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pic>
        <p:nvPicPr>
          <p:cNvPr id="73" name="Picture 5" descr="map"/>
          <p:cNvPicPr/>
          <p:nvPr/>
        </p:nvPicPr>
        <p:blipFill>
          <a:blip r:embed="rId1"/>
          <a:stretch/>
        </p:blipFill>
        <p:spPr>
          <a:xfrm>
            <a:off x="304920" y="1676520"/>
            <a:ext cx="83818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Lessons Learne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When the dust settled, the two families eventually put the feud behind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families intermarr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oday, they hold an annual reunion, and the only feuding they do is on the baseball fie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feudreunion"/>
          <p:cNvPicPr/>
          <p:nvPr/>
        </p:nvPicPr>
        <p:blipFill>
          <a:blip r:embed="rId1"/>
          <a:stretch/>
        </p:blipFill>
        <p:spPr>
          <a:xfrm>
            <a:off x="4267080" y="1905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Learn More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Read </a:t>
            </a:r>
            <a:r>
              <a:rPr b="0" i="1" lang="en-US" sz="3200" spc="-1" strike="noStrike">
                <a:solidFill>
                  <a:srgbClr val="dfc08d"/>
                </a:solidFill>
                <a:latin typeface="Arial"/>
              </a:rPr>
              <a:t>The Coffin Quilt</a:t>
            </a: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 by Ann Rinald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Vis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libby-genealogy.com/hatfield-mccoy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Vis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blueridgecountry.com/hatmac/hatmac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Vis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userwww.service.emory.edu/~dmcco01/McCoy/diversion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Grangerfords and Shepherdso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All of a sudden, bang! bang! bang! go three or four guns.... The boys jumped for the river - both of them hurt - and as they swum down the current the men run along the bank shooting at them and signing out, ‘Kill them, kill them!’ It made me sick.... I wished I hadn’t come ashore that night to see such things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dfc08d"/>
                </a:solidFill>
                <a:latin typeface="Arial"/>
              </a:rPr>
              <a:t>The Adventures of Huckleberry F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Chapter X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Family Feud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Long before the television game show, real families were involved in bloody family feu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Aside from the Shephersons and Grangerfords, other fictional feuding families include the Capulets and the Montag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Hatfields and the McCoy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From 1878 to 1896, two Appalachian families, the Hatfields and the McCoys, were embroiled in the most famous historical family feu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More than a dozen lives were lo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Was this feud the inspiration for the Shepherson-Grangerford feud?  Possibly… YOU be the ju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Why did it happen?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stolen 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Romeo and Juliet of the Appalach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htfld001"/>
          <p:cNvPicPr/>
          <p:nvPr/>
        </p:nvPicPr>
        <p:blipFill>
          <a:blip r:embed="rId1"/>
          <a:stretch/>
        </p:blipFill>
        <p:spPr>
          <a:xfrm>
            <a:off x="888840" y="1523880"/>
            <a:ext cx="3486240" cy="4294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527480" y="586728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Devil Anse Hat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Civil War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In the Civil War, the two families were on opposite sides of the war.  The Hatfields fought for the Confederacy, while the McCoys fought for the Un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During the war, Anderson “Devil Anse” Hatfield supposedly killed Harmon McCoy in batt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Devil Anse came home a Confederate capt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489640" y="525780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Harmon McC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Brother of Ran’l McC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2" descr="htfld045"/>
          <p:cNvPicPr/>
          <p:nvPr/>
        </p:nvPicPr>
        <p:blipFill>
          <a:blip r:embed="rId1"/>
          <a:stretch/>
        </p:blipFill>
        <p:spPr>
          <a:xfrm>
            <a:off x="5486400" y="1523880"/>
            <a:ext cx="25401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The Stolen Pig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In 1878, there was a dispute over ownership of a razor-backed hog in a Hatfield pigs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The judge in the court dispute, a Hatfield, sided with his k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c08d"/>
                </a:solidFill>
                <a:latin typeface="Arial"/>
              </a:rPr>
              <a:t>After the court decision, a group of McCoys ambushed Hatfields while hunt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htfld032"/>
          <p:cNvPicPr/>
          <p:nvPr/>
        </p:nvPicPr>
        <p:blipFill>
          <a:blip r:embed="rId1"/>
          <a:stretch/>
        </p:blipFill>
        <p:spPr>
          <a:xfrm>
            <a:off x="5562720" y="1371600"/>
            <a:ext cx="2222280" cy="4305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4804200" y="5638680"/>
            <a:ext cx="36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c08d"/>
                </a:solidFill>
                <a:latin typeface="Arial"/>
              </a:rPr>
              <a:t>Floyd Hatfield – Accused Pig Thi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Romeo and Juliet of the Appalachians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In 1880, Johnse Hatfield, son of Devil Anse, ran off with Roseanna McCoy at an Election Day pic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is outraged Randolph “Ran’l” McCoy, Roseanna’s fa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fc08d"/>
                </a:solidFill>
                <a:latin typeface="Arial"/>
              </a:rPr>
              <a:t>The feud escalate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htfld049"/>
          <p:cNvPicPr/>
          <p:nvPr/>
        </p:nvPicPr>
        <p:blipFill>
          <a:blip r:embed="rId1"/>
          <a:stretch/>
        </p:blipFill>
        <p:spPr>
          <a:xfrm>
            <a:off x="5029200" y="1371600"/>
            <a:ext cx="3111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Pointedly Mad"/>
              </a:rPr>
              <a:t>1881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In 1881 Roseanna and Johnse split up after she lived, unwed, with Johnse and the Hatfields for several months.  She was pregnant.  She caught measles while pregnant and the baby di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Roseanna rode all the way back to Devil Anse’s home to warn Johnse of an ambush set up by her br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fc0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c08d"/>
                </a:solidFill>
                <a:latin typeface="Arial"/>
              </a:rPr>
              <a:t>Johnse married Roseanna’s cousin Nancy later that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22:11:17Z</dcterms:created>
  <dc:creator>Dana Huff</dc:creator>
  <dc:description/>
  <dc:language>en-US</dc:language>
  <cp:lastModifiedBy>BBates</cp:lastModifiedBy>
  <dcterms:modified xsi:type="dcterms:W3CDTF">2009-10-06T16:12:05Z</dcterms:modified>
  <cp:revision>3</cp:revision>
  <dc:subject/>
  <dc:title>The Hatfields and McCoys</dc:title>
</cp:coreProperties>
</file>